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DF76FB-24AB-46C0-96FA-1AA3ADF95A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4416FD-3F0D-468C-BFC8-DE546DE905F4}" type="slidenum">
              <a:rPr b="0" lang="en-GB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F46-2C27-4138-B99D-C567F06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7E9-1B94-4046-9B14-62909346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4DD6-7672-4454-A8C9-C47518966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3E7-18AD-45C6-80DB-C2EC9239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30A1-7C4E-44F3-8656-A85096B6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5DA6-625D-4236-B1E2-C16DA86C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3785-C5CA-48B9-BD8A-4F0AA4F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85A6-10B1-4D7C-998B-0D306B34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D94-E7EF-43D1-AE4E-0BA9ED12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124-354E-44B0-AF34-026263F2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45E7-EF94-4F34-9188-5D3E9E44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18BD-F59F-4631-999A-FC7EC0789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42D27-599C-4E09-B4B7-3EA229EEC6F5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0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143160" y="0"/>
            <a:ext cx="600048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9600" spc="-1" strike="noStrike">
                <a:solidFill>
                  <a:srgbClr val="000000"/>
                </a:solidFill>
                <a:latin typeface="Calibri"/>
              </a:rPr>
              <a:t>لست لوحد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500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0" y="5500800"/>
            <a:ext cx="9143640" cy="179604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ar-SY" sz="2800" spc="-1" strike="noStrike">
                <a:solidFill>
                  <a:srgbClr val="002060"/>
                </a:solidFill>
                <a:latin typeface="Calibri"/>
              </a:rPr>
              <a:t>الأم تحب كثيرا ابنها . أن يسوع قد وضع الحب في قلب الأمهات . محبة الأمهات هي محبة يسوع. شكرا يا رب لأنه عندما تحبني أمي أنا أفكر بك ,انك أنت أيضا تحب الأطف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عندما تضم الأنسة يديها وتسكر عينيها وتسكت أنها تفكر بيسوع الذي يتكلم معها يسوع قريب منا دائما , انه يرانا ويحبن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” انظروا عصافير السماء وزنابق الحقل لا تزرع ولا تحصد ولكن الله يطعمها حتى الأغنياء لا يلبسون مثل هذه الزنابق , ان الله يلبسها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0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عندما يرجع البابا الى البيت جوزيف يرقص من الفرح. وبعد أن يقبل أباه يركض مسرعا ليجلب لوالده الشحاطة هكذا يستطيع والده أن يرتاح أك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03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0" y="5786280"/>
            <a:ext cx="9143640" cy="1064520"/>
          </a:xfrm>
          <a:prstGeom prst="rect">
            <a:avLst/>
          </a:prstGeom>
          <a:solidFill>
            <a:schemeClr val="accent4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ar-SY" sz="3200" spc="-1" strike="noStrike">
                <a:solidFill>
                  <a:srgbClr val="ffffff"/>
                </a:solidFill>
                <a:latin typeface="Calibri"/>
              </a:rPr>
              <a:t>أ</a:t>
            </a: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ما تيريز أخت جوزف الصغيرة فأنها مبسوطة وتساعد أمها في تحضير الطاولة للعش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0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000000"/>
                </a:solidFill>
                <a:latin typeface="Calibri"/>
              </a:rPr>
              <a:t>جوزف وتيريز يذهبان كل يوم الى الروضة . وعندما يصلان أمام بيت صديقهما طوني يصيحان له ويذهبان معه الى المدرس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05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6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ولكن لا حاجة اليوم الى دق باب طوني فالشبابيك مغلقة . بالأكيد طوني ذهب مع أمه الى مكان بعيد وليسا في البي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0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286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3"/>
          <p:cNvSpPr/>
          <p:nvPr/>
        </p:nvSpPr>
        <p:spPr>
          <a:xfrm>
            <a:off x="0" y="6286680"/>
            <a:ext cx="9143640" cy="1064520"/>
          </a:xfrm>
          <a:prstGeom prst="rect">
            <a:avLst/>
          </a:prstGeom>
          <a:solidFill>
            <a:schemeClr val="accent6">
              <a:lumMod val="7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ن الأنسة في المدرسة تقرأ أسماء الطلاب لتعرف الغائب والحاض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07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chemeClr val="accent2">
                    <a:lumMod val="50000"/>
                  </a:schemeClr>
                </a:solidFill>
                <a:latin typeface="Calibri"/>
              </a:rPr>
              <a:t>ان جوزف وتيريز عندما يذهبان الى المدرسة يمران أمام بائعة الحلوى ويسلمان دوما عليها مبتسمين وقائلين :“ صباح الخير 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0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78592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0" y="5786280"/>
            <a:ext cx="9143640" cy="1064520"/>
          </a:xfrm>
          <a:prstGeom prst="rect">
            <a:avLst/>
          </a:prstGeom>
          <a:solidFill>
            <a:schemeClr val="accent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00"/>
                </a:solidFill>
                <a:latin typeface="Calibri"/>
              </a:rPr>
              <a:t>تيريز من أكبر صديقاتها في الصف ولذا تفرح كثيرا عندما تساعد الصغار وتخدم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09.jpg"/>
          <p:cNvPicPr/>
          <p:nvPr/>
        </p:nvPicPr>
        <p:blipFill>
          <a:blip r:embed="rId1"/>
          <a:stretch/>
        </p:blipFill>
        <p:spPr>
          <a:xfrm>
            <a:off x="0" y="0"/>
            <a:ext cx="9143640" cy="59288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chemeClr val="accent2">
              <a:lumMod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00"/>
                </a:solidFill>
                <a:latin typeface="Calibri"/>
              </a:rPr>
              <a:t>ان قلب جوزف من ذهب وطيب جدا اذا وقع أحد الأطفال أو وسخ ثيابه أو بكى , جوزف يحمله وينظفه ويعزيه . انه يحب الجميع , والكل يحبون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  <Words>23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9:57:18Z</dcterms:created>
  <dc:creator>Computer</dc:creator>
  <dc:description/>
  <dc:language>en-US</dc:language>
  <cp:lastModifiedBy>Computer</cp:lastModifiedBy>
  <dcterms:modified xsi:type="dcterms:W3CDTF">2013-05-04T04:26:53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2</vt:r8>
  </property>
</Properties>
</file>